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Click to move the slide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940B8-8886-4A09-8FB4-1AF9A8350F7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E3F6E-6979-46FF-80F2-F8C95517121C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AEF29-D452-4167-AA09-EA363C134151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BE9F9-CCEA-4224-A2E7-9269A6446D36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D2B9C-46E0-4190-B00D-1809FFD3455F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90F1B-7744-456C-811D-5B46C61B6C28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BA611-9C7A-4F66-870C-7D0F1B9811F3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B0603-88EE-4938-BF45-6E831D2E6300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0EFA6-5AAD-43E1-BFA6-CD82715EBA76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6826F-53C1-4BD9-BF89-B0F042309608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038F0-13EA-48CD-8E32-100E1CD181EB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691D5-7644-46F9-98B3-8EC33025E9A0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2BB11-7174-4EAA-A81B-B24B00B48F3A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2D4B2-56BC-42A1-8BBD-3DF603F78150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DCEDA-2B8E-436B-81C2-29ED997B3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F0B2E-1FDB-4FF0-BBB6-E46A53995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A87EC-F2EC-44F7-B662-25C29D7C8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C39D0-C021-4BCF-9F82-5F7E96878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68B2D-A186-45A2-92A8-6EB562533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8CA20-12A2-4F49-A637-11514DDAB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D6382-3E71-4FD7-9B3D-C67243BEA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33B70-05DF-42E4-B929-EC681E457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655D8-1CC2-4AE7-9F91-A8F7A4D56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2894040" y="259920"/>
            <a:ext cx="5710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6E650-342A-4BED-B330-B3A25BF57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3B1B0-AE51-4101-9819-939341DCB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97289-C50E-426E-B1D6-73F4B8BB1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CBB79-5B53-4D48-A456-B1CAA0CAB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C6B03-B162-43EA-8F32-6F2B0C7C2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DDD43-BC5C-4442-B11C-81F87C0C2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0EA65-E6CC-4659-9137-1578EC801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0D1DF-FF22-416A-986D-8EFD68078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AC6B8-7AC0-481E-9516-52EE4EE17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F8A30-EBF7-4221-9399-47E08073B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8B443-FACB-4CCA-825D-F8F817E7B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894040" y="259920"/>
            <a:ext cx="5710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81698-EBC2-4798-9EF9-FD86CE38E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8B948-6ED2-4BE0-94A9-4F237BBEF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1EAF3-9BCB-4897-BF2A-C9B7B3F78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7205F-6E75-49FD-A57F-79485844E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Click to edit the outline text format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6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econd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2" marL="11430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Third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3" marL="16002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Four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4" marL="20574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Fif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5" marL="2057400" indent="-228600">
              <a:spcBef>
                <a:spcPts val="624"/>
              </a:spcBef>
              <a:buClr>
                <a:srgbClr val="005ca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ix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6" marL="2057400" indent="-228600">
              <a:spcBef>
                <a:spcPts val="624"/>
              </a:spcBef>
              <a:buClr>
                <a:srgbClr val="005ca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even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68000" y="6381720"/>
            <a:ext cx="213372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79281-223D-432C-BA16-EFACB70A06B2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Line 8"/>
          <p:cNvSpPr/>
          <p:nvPr/>
        </p:nvSpPr>
        <p:spPr>
          <a:xfrm flipV="1">
            <a:off x="468360" y="1557360"/>
            <a:ext cx="0" cy="530064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5" name="Line 9"/>
          <p:cNvSpPr/>
          <p:nvPr/>
        </p:nvSpPr>
        <p:spPr>
          <a:xfrm>
            <a:off x="468360" y="1557360"/>
            <a:ext cx="4174920" cy="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pic>
        <p:nvPicPr>
          <p:cNvPr id="6" name="Picture 11" descr="EBF FINAL"/>
          <p:cNvPicPr/>
          <p:nvPr/>
        </p:nvPicPr>
        <p:blipFill>
          <a:blip r:embed="rId2"/>
          <a:stretch/>
        </p:blipFill>
        <p:spPr>
          <a:xfrm>
            <a:off x="0" y="189000"/>
            <a:ext cx="2943360" cy="130500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Click to edit the title text format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6"/>
          <p:cNvSpPr/>
          <p:nvPr/>
        </p:nvSpPr>
        <p:spPr>
          <a:xfrm flipV="1">
            <a:off x="468360" y="1557360"/>
            <a:ext cx="0" cy="530064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45" name="Line 7"/>
          <p:cNvSpPr/>
          <p:nvPr/>
        </p:nvSpPr>
        <p:spPr>
          <a:xfrm>
            <a:off x="468360" y="1557360"/>
            <a:ext cx="4174920" cy="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pic>
        <p:nvPicPr>
          <p:cNvPr id="46" name="Picture 8" descr="EBF FINAL"/>
          <p:cNvPicPr/>
          <p:nvPr/>
        </p:nvPicPr>
        <p:blipFill>
          <a:blip r:embed="rId2"/>
          <a:stretch/>
        </p:blipFill>
        <p:spPr>
          <a:xfrm>
            <a:off x="0" y="189000"/>
            <a:ext cx="2943360" cy="1305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Click to edit the outline text format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6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econd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2" marL="11430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Third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3" marL="16002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Four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4" marL="20574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Fif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5" marL="2057400" indent="-228600">
              <a:spcBef>
                <a:spcPts val="624"/>
              </a:spcBef>
              <a:buClr>
                <a:srgbClr val="005ca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ix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6" marL="2057400" indent="-228600">
              <a:spcBef>
                <a:spcPts val="624"/>
              </a:spcBef>
              <a:buClr>
                <a:srgbClr val="005ca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even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Click to edit the title text format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7ADBF-DBA2-4F69-97FF-00A0CE2EDBB1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cc"/>
                </a:solidFill>
                <a:latin typeface="Tahoma"/>
                <a:ea typeface="Times New Roman"/>
              </a:rPr>
              <a:t>Latest developments in the EU legislation</a:t>
            </a:r>
            <a:br>
              <a:rPr sz="2800"/>
            </a:br>
            <a:r>
              <a:rPr b="1" lang="en-GB" sz="2800" spc="-1" strike="noStrike">
                <a:solidFill>
                  <a:srgbClr val="0066cc"/>
                </a:solidFill>
                <a:latin typeface="Tahoma"/>
                <a:ea typeface="Times New Roman"/>
              </a:rPr>
              <a:t>on financial service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Viktorija Proskurovska, EBF Adviser</a:t>
            </a:r>
            <a:br>
              <a:rPr sz="2500"/>
            </a:b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18th edition</a:t>
            </a:r>
            <a:br>
              <a:rPr sz="2500"/>
            </a:b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Brussels, 3 December 2009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SEPA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66cc"/>
                </a:solidFill>
                <a:uFillTx/>
                <a:latin typeface="Times New Roman"/>
              </a:rPr>
              <a:t>29-Sept-09: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Result of a EC consultation shows that an </a:t>
            </a:r>
            <a:r>
              <a:rPr b="0" i="1" lang="en-GB" sz="2400" spc="-1" strike="noStrike">
                <a:solidFill>
                  <a:srgbClr val="0066cc"/>
                </a:solidFill>
                <a:latin typeface="Times New Roman"/>
              </a:rPr>
              <a:t>end-date 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to the process of </a:t>
            </a:r>
            <a:r>
              <a:rPr b="0" i="1" lang="en-GB" sz="2400" spc="-1" strike="noStrike">
                <a:solidFill>
                  <a:srgbClr val="0066cc"/>
                </a:solidFill>
                <a:latin typeface="Times New Roman"/>
              </a:rPr>
              <a:t>migration to SEPA 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is required. Migration to SEPA is irreversible.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66cc"/>
                </a:solidFill>
                <a:uFillTx/>
                <a:latin typeface="Times New Roman"/>
              </a:rPr>
              <a:t>1-Nov-09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: </a:t>
            </a:r>
            <a:br>
              <a:rPr sz="2800"/>
            </a:br>
            <a:r>
              <a:rPr b="0" i="1" lang="en-GB" sz="2400" spc="-1" strike="noStrike">
                <a:solidFill>
                  <a:srgbClr val="0066cc"/>
                </a:solidFill>
                <a:latin typeface="Times New Roman"/>
              </a:rPr>
              <a:t>Bank account switching 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within a MS is made easier.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66cc"/>
                </a:solidFill>
                <a:uFillTx/>
                <a:latin typeface="Times New Roman"/>
              </a:rPr>
              <a:t>2-Nov-09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: </a:t>
            </a:r>
            <a:br>
              <a:rPr sz="2400"/>
            </a:b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SEPA </a:t>
            </a:r>
            <a:r>
              <a:rPr b="0" i="1" lang="en-GB" sz="2400" spc="-1" strike="noStrike">
                <a:solidFill>
                  <a:srgbClr val="0066cc"/>
                </a:solidFill>
                <a:latin typeface="Times New Roman"/>
              </a:rPr>
              <a:t>Direct Debit Scheme 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(for EU MS) becomes effective.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31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32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86702-37C1-4798-9660-3F8C347E5483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34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B4741-3A1B-4C5B-B36D-3CBD81827B2C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66cc"/>
                </a:solidFill>
                <a:uFillTx/>
                <a:latin typeface="Times New Roman"/>
              </a:rPr>
              <a:t>4 Items</a:t>
            </a: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Consultation on the IFRS for SMEs;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Exchange of audit working papers between MSs and Canada, Japan and Switzerland;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66cc"/>
                </a:solidFill>
                <a:latin typeface="Times New Roman"/>
              </a:rPr>
              <a:t>Need to remove barriers to entry for audit firms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Possible adoption of international standards for statutory audit of EU companies.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36" name="TextBox 5"/>
          <p:cNvSpPr/>
          <p:nvPr/>
        </p:nvSpPr>
        <p:spPr>
          <a:xfrm>
            <a:off x="2357280" y="285840"/>
            <a:ext cx="65008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5cad"/>
                </a:solidFill>
                <a:latin typeface="Times New Roman"/>
              </a:rPr>
              <a:t>Financial Reporting and Taxation </a:t>
            </a:r>
            <a:endParaRPr b="0" lang="en-US" sz="3000" spc="-1" strike="noStrike">
              <a:solidFill>
                <a:srgbClr val="005c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38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AF720-A400-41D9-83B7-FF1B73CC254D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Removal of barriers to entry for audit firm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66cc"/>
                </a:solidFill>
                <a:uFillTx/>
                <a:latin typeface="Times New Roman"/>
              </a:rPr>
              <a:t>17-Jul-09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: </a:t>
            </a:r>
            <a:br>
              <a:rPr sz="3200"/>
            </a:b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EC published a summary of the consultation </a:t>
            </a:r>
            <a:r>
              <a:rPr b="1" lang="en-GB" sz="2400" spc="-1" strike="noStrike">
                <a:solidFill>
                  <a:srgbClr val="0066cc"/>
                </a:solidFill>
                <a:latin typeface="Times New Roman"/>
              </a:rPr>
              <a:t>on control structures in audit firms and their consequences on the audit market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.  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The study, </a:t>
            </a:r>
            <a:r>
              <a:rPr b="0" i="1" lang="en-GB" sz="2400" spc="-1" strike="noStrike">
                <a:solidFill>
                  <a:srgbClr val="0066cc"/>
                </a:solidFill>
                <a:latin typeface="Times New Roman"/>
              </a:rPr>
              <a:t>inter alia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, concludes: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spcAft>
                <a:spcPts val="5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all potential barriers to the entry, growth and survival of audit firms in the international audit market must be removed.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spcAft>
                <a:spcPts val="5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Current rules are not indispensable in order to retain human capital.</a:t>
            </a: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A number of other</a:t>
            </a:r>
            <a:r>
              <a:rPr b="1" lang="en-GB" sz="2000" spc="-1" strike="noStrike">
                <a:solidFill>
                  <a:srgbClr val="0066cc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barriers to increasing the number of audit firms operating on the international market were identified.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42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8779E-0631-477D-81A4-B0EF0BB70274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5cad"/>
                </a:solidFill>
                <a:latin typeface="Times New Roman"/>
              </a:rPr>
              <a:t>Thank you for your attention!</a:t>
            </a:r>
            <a:endParaRPr b="0" lang="en-US" sz="38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98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451EE-21FE-406B-89EE-897046DAA6AB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28 Recent Developments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Banking Regulation and Supervision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-  6 -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Financial Markets and Securities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-  7 -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Retail Financial Services and Payments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- 11-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Financial Reporting and Taxation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-  4 -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Remarks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All EU legislative initiatives in the past period have been related to </a:t>
            </a:r>
            <a:r>
              <a:rPr b="0" i="1" lang="en-GB" sz="2400" spc="-1" strike="noStrike">
                <a:solidFill>
                  <a:srgbClr val="0066cc"/>
                </a:solidFill>
                <a:latin typeface="Times New Roman"/>
              </a:rPr>
              <a:t>countering the causes of the current financial crisis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Directly or indirectly, most of the legislative initiative have a European and often </a:t>
            </a:r>
            <a:r>
              <a:rPr b="0" i="1" lang="en-GB" sz="2400" spc="-1" strike="noStrike">
                <a:solidFill>
                  <a:srgbClr val="0066cc"/>
                </a:solidFill>
                <a:latin typeface="Times New Roman"/>
              </a:rPr>
              <a:t>international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 scope.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In this Presentation: </a:t>
            </a:r>
            <a:r>
              <a:rPr b="0" i="1" lang="en-GB" sz="2400" spc="-1" strike="noStrike">
                <a:solidFill>
                  <a:srgbClr val="0066cc"/>
                </a:solidFill>
                <a:latin typeface="Times New Roman"/>
              </a:rPr>
              <a:t>focus on one issue per theme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For more detail, see the </a:t>
            </a:r>
            <a:r>
              <a:rPr b="0" i="1" lang="en-GB" sz="2400" spc="-1" strike="noStrike">
                <a:solidFill>
                  <a:srgbClr val="0066cc"/>
                </a:solidFill>
                <a:latin typeface="Times New Roman"/>
              </a:rPr>
              <a:t>complete set of initiatives 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(</a:t>
            </a:r>
            <a:r>
              <a:rPr b="0" i="1" lang="en-GB" sz="2400" spc="-1" strike="noStrike">
                <a:solidFill>
                  <a:srgbClr val="0066cc"/>
                </a:solidFill>
                <a:latin typeface="Times New Roman"/>
              </a:rPr>
              <a:t>to be circulated after meeting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03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04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43CE2-2969-4D04-9770-2AF6689FE56E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06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7F35B-0F32-48D1-8477-BC56569EF01B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66cc"/>
                </a:solidFill>
                <a:uFillTx/>
                <a:latin typeface="Times New Roman"/>
              </a:rPr>
              <a:t>6 Items</a:t>
            </a: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66cc"/>
                </a:solidFill>
                <a:latin typeface="Times New Roman"/>
              </a:rPr>
              <a:t>Strengthened financial supervision in Europe 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(2);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New EU Framework for Crisis Management in the Banking Sector;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Strengthened rules on bank capital and on remuneration in the banking sector;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Changes to the Capital Requirements Directive;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Review of the Financial Conglomerates Directive.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08" name="TextBox 5"/>
          <p:cNvSpPr/>
          <p:nvPr/>
        </p:nvSpPr>
        <p:spPr>
          <a:xfrm>
            <a:off x="2500200" y="285840"/>
            <a:ext cx="63579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5cad"/>
                </a:solidFill>
                <a:latin typeface="Times New Roman"/>
              </a:rPr>
              <a:t>Banking Regulation &amp; Supervision</a:t>
            </a:r>
            <a:endParaRPr b="0" lang="en-US" sz="3000" spc="-1" strike="noStrike">
              <a:solidFill>
                <a:srgbClr val="005c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10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21F3E-F9E3-4845-B493-C6D7B4CCF37B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Financial Supervision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66cc"/>
                </a:solidFill>
                <a:uFillTx/>
                <a:latin typeface="Times New Roman"/>
              </a:rPr>
              <a:t>23-Sept-09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2800"/>
            </a:b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EC adopted a package of draft legislation to strengthen supervision of the financial sector.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The legislation will create a new </a:t>
            </a:r>
            <a:r>
              <a:rPr b="1" lang="en-GB" sz="2400" spc="-1" strike="noStrike">
                <a:solidFill>
                  <a:srgbClr val="0066cc"/>
                </a:solidFill>
                <a:latin typeface="Times New Roman"/>
              </a:rPr>
              <a:t>European Systemic Risk Board 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(ESRB) and a </a:t>
            </a:r>
            <a:r>
              <a:rPr b="1" lang="en-GB" sz="2400" spc="-1" strike="noStrike">
                <a:solidFill>
                  <a:srgbClr val="0066cc"/>
                </a:solidFill>
                <a:latin typeface="Times New Roman"/>
              </a:rPr>
              <a:t>European System of Financial Supervisors 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(ESFS), to be established by end-2010.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66cc"/>
                </a:solidFill>
                <a:uFillTx/>
                <a:latin typeface="Times New Roman"/>
              </a:rPr>
              <a:t>26-Oct-09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EC adopted additional legislative proposals targeted to change existing financial services legislation to ensure that the new Authorities can work effectively.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14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072A2-DF8E-4653-A569-4DEE099A7D45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66cc"/>
                </a:solidFill>
                <a:uFillTx/>
                <a:latin typeface="Times New Roman"/>
              </a:rPr>
              <a:t>7 Items</a:t>
            </a: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66cc"/>
                </a:solidFill>
                <a:latin typeface="Times New Roman"/>
              </a:rPr>
              <a:t>Strengthened safety of derivatives markets 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(2);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Safer European market for credit default swaps;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Derivatives in crisis – Safeguarding Financial Stability;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Red tape reduction and improvement of investor protection;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Study on trading and post-trading prices, costs and volumes;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Public consultation on the UCITS depositary function.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16" name="TextBox 5"/>
          <p:cNvSpPr/>
          <p:nvPr/>
        </p:nvSpPr>
        <p:spPr>
          <a:xfrm>
            <a:off x="2500200" y="285840"/>
            <a:ext cx="63579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5cad"/>
                </a:solidFill>
                <a:latin typeface="Times New Roman"/>
              </a:rPr>
              <a:t>Financial Markets &amp; Securities</a:t>
            </a:r>
            <a:endParaRPr b="0" lang="en-US" sz="3000" spc="-1" strike="noStrike">
              <a:solidFill>
                <a:srgbClr val="005c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18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5B7D3-347F-427A-91CE-16492F2A890F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Safety of derivatives market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66cc"/>
                </a:solidFill>
                <a:uFillTx/>
                <a:latin typeface="Times New Roman"/>
              </a:rPr>
              <a:t>20-Oct-09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: </a:t>
            </a:r>
            <a:br>
              <a:rPr sz="3200"/>
            </a:b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After a stakeholder Consultation launched in Jul-09 and the public hearing in Sept-09, EC adopted a </a:t>
            </a:r>
            <a:r>
              <a:rPr b="1" lang="en-GB" sz="2400" spc="-1" strike="noStrike">
                <a:solidFill>
                  <a:srgbClr val="0066cc"/>
                </a:solidFill>
                <a:latin typeface="Times New Roman"/>
              </a:rPr>
              <a:t>Communication for ensuring efficient, safe and sound derivatives markets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The Communication sets out future policy actions to: 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66cc"/>
                </a:solidFill>
                <a:latin typeface="Times New Roman"/>
              </a:rPr>
              <a:t>increase transparency </a:t>
            </a:r>
            <a:r>
              <a:rPr b="0" lang="en-US" sz="2200" spc="-1" strike="noStrike">
                <a:solidFill>
                  <a:srgbClr val="0066cc"/>
                </a:solidFill>
                <a:latin typeface="Times New Roman"/>
              </a:rPr>
              <a:t>of the derivatives market, </a:t>
            </a: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66cc"/>
                </a:solidFill>
                <a:latin typeface="Times New Roman"/>
              </a:rPr>
              <a:t>reduce counterparty and operational risk </a:t>
            </a:r>
            <a:r>
              <a:rPr b="0" lang="en-US" sz="2200" spc="-1" strike="noStrike">
                <a:solidFill>
                  <a:srgbClr val="0066cc"/>
                </a:solidFill>
                <a:latin typeface="Times New Roman"/>
              </a:rPr>
              <a:t>in trading and </a:t>
            </a: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66cc"/>
                </a:solidFill>
                <a:latin typeface="Times New Roman"/>
              </a:rPr>
              <a:t>enhance market integrity </a:t>
            </a:r>
            <a:r>
              <a:rPr b="0" lang="en-US" sz="2200" spc="-1" strike="noStrike">
                <a:solidFill>
                  <a:srgbClr val="0066cc"/>
                </a:solidFill>
                <a:latin typeface="Times New Roman"/>
              </a:rPr>
              <a:t>and </a:t>
            </a:r>
            <a:r>
              <a:rPr b="0" i="1" lang="en-US" sz="2200" spc="-1" strike="noStrike">
                <a:solidFill>
                  <a:srgbClr val="0066cc"/>
                </a:solidFill>
                <a:latin typeface="Times New Roman"/>
              </a:rPr>
              <a:t>oversight</a:t>
            </a:r>
            <a:r>
              <a:rPr b="0" lang="en-US" sz="2200" spc="-1" strike="noStrike">
                <a:solidFill>
                  <a:srgbClr val="0066cc"/>
                </a:solidFill>
                <a:latin typeface="Times New Roman"/>
              </a:rPr>
              <a:t>. </a:t>
            </a: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The EC will start a process of drafting legislation, notably by launching impact assessments, and come forward with legislative proposals in 2010.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22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E406B-691D-456A-9308-FC221C98DA52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66cc"/>
                </a:solidFill>
                <a:uFillTx/>
                <a:latin typeface="Times New Roman"/>
              </a:rPr>
              <a:t>11 Items</a:t>
            </a: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66cc"/>
                </a:solidFill>
                <a:latin typeface="Times New Roman"/>
              </a:rPr>
              <a:t>Consumers to start benefiting from easier bank account switching from Nov-09;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66cc"/>
                </a:solidFill>
                <a:latin typeface="Times New Roman"/>
              </a:rPr>
              <a:t>SEPA – Cross-Border Payments Now A Reality;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66cc"/>
                </a:solidFill>
                <a:latin typeface="Times New Roman"/>
              </a:rPr>
              <a:t>Possible end-date for SEPA migration;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66cc"/>
                </a:solidFill>
                <a:latin typeface="Times New Roman"/>
              </a:rPr>
              <a:t>General support for end-date for SEPA migration;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66cc"/>
                </a:solidFill>
                <a:latin typeface="Times New Roman"/>
              </a:rPr>
              <a:t>Actions to make SEPA a success;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Technical Workshop on Packaged Retail Investment Products;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Ensuring access to a basic bank account;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Alternative dispute resolution (ADR) in the area of financial services;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Report on the financial crisis and financial education;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Ensuring responsible lending and borrowing in the EU;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Expert group report on credit histories.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24" name="TextBox 5"/>
          <p:cNvSpPr/>
          <p:nvPr/>
        </p:nvSpPr>
        <p:spPr>
          <a:xfrm>
            <a:off x="2357280" y="285840"/>
            <a:ext cx="65008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5cad"/>
                </a:solidFill>
                <a:latin typeface="Times New Roman"/>
              </a:rPr>
              <a:t>Retail Financial Services &amp; Payments</a:t>
            </a:r>
            <a:endParaRPr b="0" lang="en-US" sz="3000" spc="-1" strike="noStrike">
              <a:solidFill>
                <a:srgbClr val="005c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26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3B88F-7F79-421F-875B-CBE282DE8E88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SEPA Roadmap for 2009-2012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66cc"/>
                </a:solidFill>
                <a:uFillTx/>
                <a:latin typeface="Times New Roman"/>
              </a:rPr>
              <a:t>10-Sept-09: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EC adopted a Communication on </a:t>
            </a:r>
            <a:r>
              <a:rPr b="1" lang="en-GB" sz="2400" spc="-1" strike="noStrike">
                <a:solidFill>
                  <a:srgbClr val="0066cc"/>
                </a:solidFill>
                <a:latin typeface="Times New Roman"/>
              </a:rPr>
              <a:t>Completing SEPA: a Roadmap for 2009-2012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Communication provides a framework for action within six priority areas: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66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Foster migration.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66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Increase SEPA awareness and promote SEPA products.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66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Design a sound legal environment and strengthen SEPA compliance.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66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Promote innovation.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66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Ensure necessary standardisation, interoperability and security.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66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Clarify and improve SEPA governance.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0T14:54:20Z</dcterms:created>
  <dc:creator>proskurovska</dc:creator>
  <dc:description/>
  <dc:language>en-US</dc:language>
  <cp:lastModifiedBy>Viktorija Proskurovska</cp:lastModifiedBy>
  <dcterms:modified xsi:type="dcterms:W3CDTF">2009-12-02T11:23:45Z</dcterms:modified>
  <cp:revision>197</cp:revision>
  <dc:subject/>
  <dc:title>Latest developments in the EU legislation on financial services</dc:title>
</cp:coreProperties>
</file>